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A61-FFAE-431E-A757-6B0EAD42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615-A495-4824-8B97-13D34FBC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BDE-3EDB-47C9-A641-1C396D8B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FC8-E7AC-4875-9DD7-7B3277ED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7A9-EF41-446D-90F0-0458785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3B6-7376-4F56-A0CC-6130EC3E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C24-C12E-4977-B8DE-ABBC2DF0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116-03A0-4D74-8841-B46C6A9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96F-9733-4F7C-A0AE-7098357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7D2-68F9-4EC7-BFF3-FE3BCE3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BBD-68C7-4F8C-B8F5-AD4B25A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A83-33BA-46E7-8F40-F605F31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B29-D63E-4FC8-85C1-D5BACA49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e2e"/>
            </a:gs>
            <a:gs pos="50000">
              <a:srgbClr val="ff99ff"/>
            </a:gs>
            <a:gs pos="100000">
              <a:srgbClr val="fe2e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 Ca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Por Caitlin Redd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4534200" cy="2765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632200">
            <a:off x="761760" y="25142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ga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952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, 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818000">
            <a:off x="1142640" y="5257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lujos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998000">
            <a:off x="727200" y="311292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oderna y luj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47800">
            <a:off x="664920" y="1442880"/>
            <a:ext cx="192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c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5410080"/>
            <a:ext cx="14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La casa es b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176800">
            <a:off x="5281560" y="5403600"/>
            <a:ext cx="275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mpresio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55800">
            <a:off x="5562720" y="4800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estupen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257600">
            <a:off x="3885840" y="2895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magnifico, y impresion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coc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f8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581640" cy="268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0884200">
            <a:off x="4591080" y="54864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bonito cua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743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od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802800">
            <a:off x="6857640" y="18288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luj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50000">
            <a:off x="1206000" y="547164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cuar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334120" cy="351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1438600">
            <a:off x="685440" y="18288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Pat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674400">
            <a:off x="5717520" y="5562360"/>
            <a:ext cx="22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ncre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594200">
            <a:off x="913680" y="49525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b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962160" cy="2469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409920" cy="2125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rot="567600">
            <a:off x="1049400" y="403848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Hay dos sa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0574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lujosa s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54100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a sa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Goudy Stout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2717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1981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b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148600">
            <a:off x="4267080" y="365724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303800">
            <a:off x="609120" y="4495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fabul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3600" y="4267080"/>
            <a:ext cx="266688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2480" y="5638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Hay dos b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48040" cy="266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0355600">
            <a:off x="762120" y="26668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com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1055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fabul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40400">
            <a:off x="6248160" y="19051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incre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  <a:ea typeface="Arial"/>
              </a:rPr>
              <a:t>í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1676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190760" cy="279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461200">
            <a:off x="685800" y="18284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b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5791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un jar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485600">
            <a:off x="532800" y="487656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s muy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55Z</dcterms:created>
  <dc:creator>reddingtoncai</dc:creator>
  <dc:description/>
  <dc:language>en-US</dc:language>
  <cp:lastModifiedBy>reddingtoncai</cp:lastModifiedBy>
  <dcterms:modified xsi:type="dcterms:W3CDTF">2013-04-04T15:55:32Z</dcterms:modified>
  <cp:revision>5</cp:revision>
  <dc:subject/>
  <dc:title>La Casa</dc:title>
</cp:coreProperties>
</file>